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32888" cy="1217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774-19D5-43CB-859B-F06186F9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03944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933-4E06-4AFF-9E48-185BBE63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BC1-A150-4B93-81ED-A4695D46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460-2DE1-4347-B919-EBE5004E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6AC-7F8A-48AC-A828-C21F8B59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C91-05EE-4A11-99E6-4C33EE4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3D3-8E98-4255-99C4-C2A768F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0B0-AA69-43EA-BB5D-6EC75585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7440"/>
            <a:ext cx="8220240" cy="9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B5A-9C46-407B-867B-93DA8C80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0E1-4D32-4063-9B29-621912F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BC6-465D-488C-ABD3-BAEE2E1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D33-D5C0-42DC-82C8-249A924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11089800"/>
            <a:ext cx="2130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1200" y="11089800"/>
            <a:ext cx="28922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6960" y="11089800"/>
            <a:ext cx="2130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853-ECC3-47A6-B1EA-D0ACFBD8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tock_741303_LiteStand360"/>
          <p:cNvPicPr/>
          <p:nvPr/>
        </p:nvPicPr>
        <p:blipFill>
          <a:blip r:embed="rId1"/>
          <a:srcRect l="26674" t="0" r="20000" b="75811"/>
          <a:stretch/>
        </p:blipFill>
        <p:spPr>
          <a:xfrm rot="21308400">
            <a:off x="3295800" y="3005280"/>
            <a:ext cx="890280" cy="9903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5"/>
          <p:cNvGrpSpPr/>
          <p:nvPr/>
        </p:nvGrpSpPr>
        <p:grpSpPr>
          <a:xfrm>
            <a:off x="341280" y="147600"/>
            <a:ext cx="1588680" cy="1904760"/>
            <a:chOff x="341280" y="147600"/>
            <a:chExt cx="1588680" cy="1904760"/>
          </a:xfrm>
        </p:grpSpPr>
        <p:sp>
          <p:nvSpPr>
            <p:cNvPr id="43" name="Line 6"/>
            <p:cNvSpPr/>
            <p:nvPr/>
          </p:nvSpPr>
          <p:spPr>
            <a:xfrm flipV="1">
              <a:off x="774000" y="1117800"/>
              <a:ext cx="159480" cy="837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7"/>
            <p:cNvSpPr/>
            <p:nvPr/>
          </p:nvSpPr>
          <p:spPr>
            <a:xfrm>
              <a:off x="575280" y="228960"/>
              <a:ext cx="363960" cy="6951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8"/>
            <p:cNvSpPr/>
            <p:nvPr/>
          </p:nvSpPr>
          <p:spPr>
            <a:xfrm>
              <a:off x="1212480" y="1117080"/>
              <a:ext cx="3106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893520" y="1117800"/>
              <a:ext cx="279000" cy="19908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939240" y="921960"/>
              <a:ext cx="284760" cy="11700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41280" y="147600"/>
              <a:ext cx="239040" cy="9288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"/>
            <p:cNvSpPr/>
            <p:nvPr/>
          </p:nvSpPr>
          <p:spPr>
            <a:xfrm flipV="1">
              <a:off x="1338840" y="945000"/>
              <a:ext cx="78840" cy="171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>
              <a:off x="1234080" y="942480"/>
              <a:ext cx="3106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4"/>
            <p:cNvSpPr/>
            <p:nvPr/>
          </p:nvSpPr>
          <p:spPr>
            <a:xfrm>
              <a:off x="1633680" y="1117080"/>
              <a:ext cx="296280" cy="8301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5"/>
            <p:cNvSpPr/>
            <p:nvPr/>
          </p:nvSpPr>
          <p:spPr>
            <a:xfrm flipV="1">
              <a:off x="1617120" y="1515600"/>
              <a:ext cx="159480" cy="79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1658520" y="1035720"/>
              <a:ext cx="180000" cy="48996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1678680" y="1009080"/>
              <a:ext cx="248400" cy="18540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549800" y="1101960"/>
              <a:ext cx="86040" cy="73800"/>
            </a:xfrm>
            <a:prstGeom prst="pie">
              <a:avLst/>
            </a:pr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9"/>
            <p:cNvSpPr/>
            <p:nvPr/>
          </p:nvSpPr>
          <p:spPr>
            <a:xfrm flipH="1">
              <a:off x="653400" y="844560"/>
              <a:ext cx="239040" cy="1196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0"/>
            <p:cNvSpPr/>
            <p:nvPr/>
          </p:nvSpPr>
          <p:spPr>
            <a:xfrm>
              <a:off x="1554120" y="1174320"/>
              <a:ext cx="133560" cy="878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21" descr=""/>
          <p:cNvPicPr/>
          <p:nvPr/>
        </p:nvPicPr>
        <p:blipFill>
          <a:blip r:embed="rId2"/>
          <a:stretch/>
        </p:blipFill>
        <p:spPr>
          <a:xfrm>
            <a:off x="3168720" y="3683160"/>
            <a:ext cx="2754360" cy="382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invaex2"/>
          <p:cNvPicPr/>
          <p:nvPr/>
        </p:nvPicPr>
        <p:blipFill>
          <a:blip r:embed="rId3"/>
          <a:stretch/>
        </p:blipFill>
        <p:spPr>
          <a:xfrm>
            <a:off x="660240" y="665496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606600" y="781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1955880" y="6806880"/>
            <a:ext cx="1218960" cy="304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 rot="20781600">
            <a:off x="1955880" y="6654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"/>
          <p:cNvPicPr/>
          <p:nvPr/>
        </p:nvPicPr>
        <p:blipFill>
          <a:blip r:embed="rId4"/>
          <a:stretch/>
        </p:blipFill>
        <p:spPr>
          <a:xfrm>
            <a:off x="6299280" y="7496280"/>
            <a:ext cx="2361960" cy="16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HR1130_Advance2000"/>
          <p:cNvPicPr/>
          <p:nvPr/>
        </p:nvPicPr>
        <p:blipFill>
          <a:blip r:embed="rId5"/>
          <a:stretch/>
        </p:blipFill>
        <p:spPr>
          <a:xfrm>
            <a:off x="3882960" y="7767720"/>
            <a:ext cx="1371600" cy="981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8"/>
          <p:cNvSpPr/>
          <p:nvPr/>
        </p:nvSpPr>
        <p:spPr>
          <a:xfrm>
            <a:off x="3895560" y="8778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pital B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5365800" y="8283600"/>
            <a:ext cx="12193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5375160" y="7950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cl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1" descr="oxygentank"/>
          <p:cNvPicPr/>
          <p:nvPr/>
        </p:nvPicPr>
        <p:blipFill>
          <a:blip r:embed="rId6"/>
          <a:srcRect l="25018" t="0" r="20014" b="0"/>
          <a:stretch/>
        </p:blipFill>
        <p:spPr>
          <a:xfrm>
            <a:off x="2168640" y="7481880"/>
            <a:ext cx="838080" cy="1144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2"/>
          <p:cNvSpPr/>
          <p:nvPr/>
        </p:nvSpPr>
        <p:spPr>
          <a:xfrm>
            <a:off x="1952640" y="85964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xygen T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2873520" y="6643800"/>
            <a:ext cx="1295280" cy="13716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 rot="18786000">
            <a:off x="2806560" y="73270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e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5" descr="01-b"/>
          <p:cNvPicPr/>
          <p:nvPr/>
        </p:nvPicPr>
        <p:blipFill>
          <a:blip r:embed="rId7"/>
          <a:srcRect l="0" t="0" r="0" b="44839"/>
          <a:stretch/>
        </p:blipFill>
        <p:spPr>
          <a:xfrm flipH="1" rot="15828600">
            <a:off x="3783240" y="5981040"/>
            <a:ext cx="82836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vital-signs-300-large3"/>
          <p:cNvPicPr/>
          <p:nvPr/>
        </p:nvPicPr>
        <p:blipFill>
          <a:blip r:embed="rId8"/>
          <a:stretch/>
        </p:blipFill>
        <p:spPr>
          <a:xfrm>
            <a:off x="6756480" y="3846600"/>
            <a:ext cx="923760" cy="167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7"/>
          <p:cNvSpPr/>
          <p:nvPr/>
        </p:nvSpPr>
        <p:spPr>
          <a:xfrm>
            <a:off x="6470640" y="55119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 flipV="1">
            <a:off x="5765760" y="4673520"/>
            <a:ext cx="1143000" cy="45720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 rot="20230200">
            <a:off x="5765760" y="4608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0" descr="ivstand"/>
          <p:cNvPicPr/>
          <p:nvPr/>
        </p:nvPicPr>
        <p:blipFill>
          <a:blip r:embed="rId9"/>
          <a:stretch/>
        </p:blipFill>
        <p:spPr>
          <a:xfrm>
            <a:off x="2023920" y="2905200"/>
            <a:ext cx="770040" cy="1709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1"/>
          <p:cNvSpPr/>
          <p:nvPr/>
        </p:nvSpPr>
        <p:spPr>
          <a:xfrm>
            <a:off x="1673280" y="4637160"/>
            <a:ext cx="14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usion St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2544840" y="3711600"/>
            <a:ext cx="103356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3"/>
          <p:cNvSpPr/>
          <p:nvPr/>
        </p:nvSpPr>
        <p:spPr>
          <a:xfrm>
            <a:off x="2532240" y="337824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r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4" descr="CDR0000526546"/>
          <p:cNvPicPr/>
          <p:nvPr/>
        </p:nvPicPr>
        <p:blipFill>
          <a:blip r:embed="rId10"/>
          <a:srcRect l="0" t="6900" r="31334" b="12523"/>
          <a:stretch/>
        </p:blipFill>
        <p:spPr>
          <a:xfrm>
            <a:off x="1193760" y="5130720"/>
            <a:ext cx="1143000" cy="95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5"/>
          <p:cNvSpPr/>
          <p:nvPr/>
        </p:nvSpPr>
        <p:spPr>
          <a:xfrm>
            <a:off x="911160" y="61214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6"/>
          <p:cNvSpPr/>
          <p:nvPr/>
        </p:nvSpPr>
        <p:spPr>
          <a:xfrm>
            <a:off x="2359080" y="5532480"/>
            <a:ext cx="12193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7"/>
          <p:cNvSpPr/>
          <p:nvPr/>
        </p:nvSpPr>
        <p:spPr>
          <a:xfrm>
            <a:off x="2413080" y="5184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an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8" descr="3747"/>
          <p:cNvPicPr/>
          <p:nvPr/>
        </p:nvPicPr>
        <p:blipFill>
          <a:blip r:embed="rId11"/>
          <a:stretch/>
        </p:blipFill>
        <p:spPr>
          <a:xfrm>
            <a:off x="6962760" y="58831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9"/>
          <p:cNvSpPr/>
          <p:nvPr/>
        </p:nvSpPr>
        <p:spPr>
          <a:xfrm>
            <a:off x="6842160" y="7101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5918040" y="6045120"/>
            <a:ext cx="1067040" cy="30492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1"/>
          <p:cNvSpPr/>
          <p:nvPr/>
        </p:nvSpPr>
        <p:spPr>
          <a:xfrm rot="939600">
            <a:off x="5974920" y="616284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ac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2" descr="FAM_CLOROX_DISINFECTING_WIPE-2719"/>
          <p:cNvPicPr/>
          <p:nvPr/>
        </p:nvPicPr>
        <p:blipFill>
          <a:blip r:embed="rId12"/>
          <a:stretch/>
        </p:blipFill>
        <p:spPr>
          <a:xfrm>
            <a:off x="5918040" y="27687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3"/>
          <p:cNvSpPr/>
          <p:nvPr/>
        </p:nvSpPr>
        <p:spPr>
          <a:xfrm>
            <a:off x="5657760" y="36050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nabl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 flipV="1">
            <a:off x="4927680" y="3595680"/>
            <a:ext cx="1143000" cy="45720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5"/>
          <p:cNvSpPr/>
          <p:nvPr/>
        </p:nvSpPr>
        <p:spPr>
          <a:xfrm rot="20230200">
            <a:off x="4928040" y="35301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ani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1968480" y="235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ulim"/>
              </a:rPr>
              <a:t>“</a:t>
            </a:r>
            <a:r>
              <a:rPr b="1" i="1" lang="en-US" sz="2800" spc="-1" strike="noStrike">
                <a:solidFill>
                  <a:srgbClr val="cc0000"/>
                </a:solidFill>
                <a:latin typeface="Gulim"/>
              </a:rPr>
              <a:t>Process Defining Furni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7" descr=""/>
          <p:cNvPicPr/>
          <p:nvPr/>
        </p:nvPicPr>
        <p:blipFill>
          <a:blip r:embed="rId13"/>
          <a:srcRect l="0" t="0" r="8947" b="0"/>
          <a:stretch/>
        </p:blipFill>
        <p:spPr>
          <a:xfrm>
            <a:off x="109440" y="9671040"/>
            <a:ext cx="2052720" cy="2209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8"/>
          <p:cNvSpPr/>
          <p:nvPr/>
        </p:nvSpPr>
        <p:spPr>
          <a:xfrm>
            <a:off x="236520" y="941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2548080" y="941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f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1" descr=""/>
          <p:cNvPicPr/>
          <p:nvPr/>
        </p:nvPicPr>
        <p:blipFill>
          <a:blip r:embed="rId14"/>
          <a:srcRect l="0" t="0" r="8947" b="0"/>
          <a:stretch/>
        </p:blipFill>
        <p:spPr>
          <a:xfrm>
            <a:off x="2409840" y="9696600"/>
            <a:ext cx="2052720" cy="2209680"/>
          </a:xfrm>
          <a:prstGeom prst="rect">
            <a:avLst/>
          </a:prstGeom>
          <a:ln w="0">
            <a:noFill/>
          </a:ln>
        </p:spPr>
      </p:pic>
      <p:sp>
        <p:nvSpPr>
          <p:cNvPr id="98" name="Freeform 62"/>
          <p:cNvSpPr/>
          <p:nvPr/>
        </p:nvSpPr>
        <p:spPr>
          <a:xfrm>
            <a:off x="636480" y="10032840"/>
            <a:ext cx="1650960" cy="1727280"/>
          </a:xfrm>
          <a:prstGeom prst="pie">
            <a:avLst/>
          </a:pr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3"/>
          <p:cNvSpPr/>
          <p:nvPr/>
        </p:nvSpPr>
        <p:spPr>
          <a:xfrm>
            <a:off x="3552840" y="10358280"/>
            <a:ext cx="1060560" cy="1459080"/>
          </a:xfrm>
          <a:prstGeom prst="pie">
            <a:avLst/>
          </a:pr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4"/>
          <p:cNvSpPr/>
          <p:nvPr/>
        </p:nvSpPr>
        <p:spPr>
          <a:xfrm>
            <a:off x="576360" y="10083960"/>
            <a:ext cx="1836720" cy="16380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5"/>
          <p:cNvSpPr/>
          <p:nvPr/>
        </p:nvSpPr>
        <p:spPr>
          <a:xfrm>
            <a:off x="3000240" y="11049120"/>
            <a:ext cx="1706760" cy="787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2433600" y="831960"/>
            <a:ext cx="6477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versal Emergency Room Ch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: Our chair on wheels would help a patient from waiting room till the patient room or till discharge. It would have some RFID tracking mechanism and a real time vital measurement mechanism/scale/EKG (which we don’t need for all chairs but for certain number of chairs only – which should be 120-160 degree recline). Objective is to reduce the patient transfer in two ways : (a) reduce the number of furniture interactions (b) reduce the medical measurement equipment interaction. This will increase the space utilization and will increase space/cost value.  It will enhance the nurse’s workflow in the quick triage and it will get your EKG done in 3-5 minutes once you enter the hospit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eed to Computer and EMR systems and Quick Registration Kit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chair would feed the vital signs and other measurements to the computer. In the future this feed would interact with the EMR system/Clinical Decision Support (CDS) which can give the patient history  if available and provide the nurse with some suggestio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7"/>
          <p:cNvSpPr/>
          <p:nvPr/>
        </p:nvSpPr>
        <p:spPr>
          <a:xfrm>
            <a:off x="96840" y="203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Gulim"/>
              </a:rPr>
              <a:t>The Triag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02:39:53Z</dcterms:created>
  <dc:creator>Thompson</dc:creator>
  <dc:description/>
  <dc:language>en-US</dc:language>
  <cp:lastModifiedBy>Kapil</cp:lastModifiedBy>
  <dcterms:modified xsi:type="dcterms:W3CDTF">2008-11-20T02:27:22Z</dcterms:modified>
  <cp:revision>7</cp:revision>
  <dc:subject/>
  <dc:title>Slide 1</dc:title>
</cp:coreProperties>
</file>